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B07-216F-409B-AB8D-C2559D69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E0B-9044-4789-BE03-0CB0A96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1FC7D-8AE9-4976-A20A-5260ACF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92E9F-5529-41C0-AE80-BB0F9B3F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A815C-B1D2-412A-888B-2D72D3D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74503-FE66-4C2D-BEF1-0746703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DB61DD-920B-4995-9DB3-9E3AFF5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BDA5F-730F-4E07-9610-DBC9E1E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C31C9-91E5-4ABC-887E-A3DCA2F1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BD0B0-B06D-4C04-ACFA-8E461D0F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32DF8-914D-42AE-B2BC-39C7ACF2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19D2C-E6F7-4CE2-8903-EE4A56F3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CF8-0BBB-477C-B99D-DF932C3A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FA96B-EC9E-4E94-AF13-ACB5607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83675-F5AD-48AB-B92F-FDB04F4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6CA42-6D79-4642-86EA-2643DD4C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27536-67E8-40CB-9AF2-3A5D6B69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C333E-C0E2-4D1F-B936-5CD1BCA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BB364-E530-44AF-BD20-AE71589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2D6DB-AA75-49F5-ACD5-4CEF2D1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19D8-800E-42E3-A310-6B621DC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6E6AB-FC58-4840-A446-8C24104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216F1-F170-4C50-B005-2EF9645A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1ED-6A64-4A08-9BC1-6D9E6F75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155DD-1883-490F-9310-AE40AEAC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D15D-65F0-4DB9-8B3A-D0306653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18605-8FE2-4BFB-AFF9-F296C7F0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FD1A2-0932-4987-8C24-CCB6A8E3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60C6-AA18-4905-A596-9BCED27A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8F83-975B-4D53-B8BD-E4D5CDBD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A957-4AB1-4F29-8151-5746A52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5B8EC-94D1-4741-B57A-075C2B4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8DFC-58DD-463C-8EE0-4E419C6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38A3-5680-46D8-96BF-0D0AAD61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DAB2-6978-4F03-BEE2-F7A4E55B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D510-1C82-47DF-A4FD-9B2672A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FFDE7-7388-427F-A04F-A118C941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9AC9-940B-4D1F-B8C6-95B0BDF1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0F6A7-4EA2-40BA-9F9F-1C5359CA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B0E42-54CC-4BC5-B06C-4076A69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AE1A9-321F-46BD-8AB4-8BFB3FB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F4EEE-4D28-4781-AF30-E947332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90924-E708-48BE-873C-978E2CE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ED9A3-BAA7-48C6-AD9E-95102C3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7D5CC-E3C1-4901-AFEE-93C7B48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C7CD-6746-4DDE-B473-FB070C76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9DCF9-BB56-4208-8A2D-D033D7C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220D1-B165-43AE-B8D3-C4349DF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296BF-5F73-4A85-AA34-B8B54550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5F938-FA05-4D9E-B927-389BB381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F83FB-691D-4643-BE52-00F58B0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C21A1-3210-4611-A962-9EDDB372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6D7AE-9AE8-42AC-8A42-20F94D2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1D0B9-CA0D-443B-8F90-A4C9B88E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3EE61-ADB9-4487-B0BE-5B201F0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C1BD9-7335-4236-AA4E-D5A999A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150-CBC7-476B-A32C-D08783C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315BC-B53A-492F-A63C-687EADAD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E57BD-2B2D-4965-98BF-3265BC11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8AF96-10BC-4E0A-8207-3A77986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BA03A-37F4-46BD-B07D-3FB2B66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E3ECB-D7C6-435D-A8A1-B13DB8F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949E6-651F-490C-A050-CF833AA6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776A8-B796-4C7F-B405-22E44346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F01D4-532D-400B-A014-057BB34D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83AA0-6D11-4547-BF44-15AFBD6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54829-8BAD-4D52-AF8E-EBAD83E7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CD0-BDEC-4ACE-BACE-EBF8B73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90E60-54FB-48EB-AA5A-CA817BE0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02B8C-3558-4C2F-9625-AE3657D1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9C224-2B28-4B3E-AB1A-9960E58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0DE49-81F5-4449-B404-AC8E1D6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C7837-B76F-46C8-922F-E9C5360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AA6FE-FE6D-449D-8DF4-46C590E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E953F-B0E2-4247-9145-3ABB1425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B383C-163F-4D92-876D-DA281F3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CB8E1-8A84-41D3-BA12-3613A34C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068B1-47F0-4254-B4D0-CD884D1B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8B1B-A3C9-4BC6-8D0D-A3A5A7F3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48524-5313-457B-ABCF-8949C5A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889DB-1036-4362-BE8A-75D45C9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6327E-FC9B-4241-BEA6-6C60F3C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E6EB5-77C5-48F4-830A-2566C38D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634A1-E116-4B8B-8A7E-0F8BC8A9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D6659-28A6-4D7A-ADE1-26AD601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80578-A455-404F-BE9B-8F7FFD5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C7749-94AD-4772-8EAC-24EE9BF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4BF40-D8DF-4590-A57B-92C7374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E55A5-830C-45CA-A231-A977DB5C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9281-70A3-4779-8399-58FA53E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F2FE06-5F55-412F-9CAB-B0CCF0AC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F7AC1-A49A-4499-B887-2E2A4F77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04D4B-870E-439E-A360-68887F3F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D8614-BD9F-4D5E-8402-50B7547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10147-A345-41B5-8784-B6A2901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E769F-C21B-45FC-8C9B-83BEA27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7D272-3958-4190-88AB-9064EFBC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D00C2-F7A3-4B97-A2E6-66C7C67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38C36-FD4F-4A89-AC34-6882BA9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EE4EC-A280-4936-A57A-9990A92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E550-B9B0-4FDA-B43D-C5F1DB3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98FB5-8FF1-4D6C-A4EC-AE0E32F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949B6-CDDC-4AA7-968B-D8D28F04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F7F3E-A1B0-4869-8E53-9B7C2224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FC9-DF17-4B59-BA0A-7982423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C44-F510-4FDC-8348-10403B8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96DB-B994-406E-B7D1-6A050E8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711-B3A1-47A7-B42F-BA11CDD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EC0-5FD5-4DD4-9018-57F5D404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3C3-A837-4BD0-907D-E185A68B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672D-C34B-4D57-BAB1-D79A096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E6D1-983B-408C-B809-C3D3527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5144-5716-41A5-B96B-949C251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47A5-C540-468F-9727-55126F1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DD22-ACD7-4642-84E5-EFCE192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A97-CE13-44AF-9660-53DCBEE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4BFD-AD66-4353-8590-5AC19BE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AD17-E3C6-460C-9599-1508F58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7757-D856-4075-B98F-4000D173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4BB0-2F60-4A73-84EF-014DFCD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9ED9-F8E7-4786-8B71-311A588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5739-AE3B-432B-9D28-3C8838B7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8A10-55C4-48C1-8E48-06A3CC1C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1990E-1852-4533-90CD-E36F11DD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5A066-2BC1-4186-B4EC-DAFB3CE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7D9EE-E327-48EA-930E-80A32396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221-ECC8-4C69-8FA0-8AC8F7A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F6BC4-F7EA-412B-BD97-2668641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B8A9D-458A-46D5-B884-9BAC9BEF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5EBC4-F59F-4626-9608-77D946A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7EB44-E4E4-455D-80F9-5401F61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73F80-ECA2-43B4-94EC-20CEA52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D1AB3-AA93-48B7-A9C4-CB5A13C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2C5E7-48DF-4AB7-9EAF-41C98F1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C5975-D8EB-418E-9CC0-2BFCB63D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E3744-B67E-48F4-B7D8-E1502D84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763D-DB89-49A3-9AF0-F93CA778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48A-0398-41A9-8E1B-1D813B93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5B2E-8488-4B55-B5DA-F568469B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4C64-6345-4FEF-B113-9C432C8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078B2-9681-4DC5-A07A-F7366D95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B6A09-66BE-4594-BB55-3BF21EF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12F4-06C5-4C26-92A6-4E3B089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98CB-C17E-42AD-891C-429E226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D33C-A7E9-4A9A-9FF1-B569F41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490A-2867-48E2-BF09-5F3D76E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1F30-2C78-4394-BAB5-5E239E4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B9E6-48C9-4DA0-96B1-5632DA76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1CD-4045-4556-9C5A-42982D41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C45C-C328-4CA2-98E6-FBB15029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1672-18A6-47B4-8923-748CFB2D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4BF0-1EB7-42EA-B6DE-4E7BFA15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CE01-8DBE-4BF2-B08C-F1AB8D3C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2B4A6-E15E-463D-B167-5302DF5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E1DC0-50B3-426B-B3A7-3EBDAAA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2B0EB-C583-464A-8ACF-A27E6DD0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431D-A2EC-4D11-8A65-34B0724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BDB63-44D7-4B41-946F-FE59C99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FCF0C-25BD-4D5E-AC2B-3168543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ABB-45AB-4A3C-BD95-EABE1F4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32A0-D9BB-44C7-8622-7421337D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3E6C-DFBB-4C77-96C2-B3E93DE8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DE4D6-AA97-4B38-BAD8-6E8C8424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145EE-6914-40EC-838C-70F97B30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1598-60E1-48C0-BE7B-E788FB5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00654-A770-4002-942E-B45B088D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3F77-965C-4BD2-B75A-7331E1F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0A69-9174-41BF-BA7A-AA45DF89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B3D2-1777-4A92-A808-93623744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CE2F-41A6-4766-B9F9-25852F5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79-B770-4D5B-9B71-FAF7EEB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7587-050E-405F-9670-E40530C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514C-8EA6-4A2B-94EC-2AE04D0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831B-69A3-4603-95D4-B1A324F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FB40C-28C3-4140-BC39-1C3B8F1D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FA08-CC84-41C9-B395-F78E26DA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7755-7F30-4E46-B47E-99D3D58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6B66-D8BC-4C7D-AF30-18731D45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9500F-D0AA-4438-8BF5-61970F01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18F8-352A-42B6-8400-39E80A8D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9B74-4E1A-4DCE-9A08-E1F6F1B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D95-6C87-4E90-BDA1-88E3B60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D535-F2D3-44E6-BBB5-65CC8E1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F289E-D273-410D-B24D-F8DAE1B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F0A3-C0FE-4F4E-8E4E-27A34D8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287F6-CCFC-410E-9F3F-5B7625F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3678-9F17-49C6-AB5D-D867E27C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11D4-C0CE-43E2-B934-D53F310F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776E-2B13-48E0-BDD0-E68D2497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9B462-8706-457F-B925-F9F7A47B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2FA58-CC37-433F-8CDF-C5AC4D91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4BEF4-3050-42EA-A4AB-EC47D8D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5DB9-97F8-46B4-925A-78D3B2F521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2A0-F90A-4711-94CC-2029366CA0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AC16-B417-49E9-B477-71574D8B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AC5-D3DE-44B7-86F1-67F03FC91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94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1EEE-8CEB-407F-AEB2-CA29F048CF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39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9EDB-2207-45ED-A7D0-B5BB0F4061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D400-9938-45DF-9219-42349BE2D4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76A-63F4-46FD-ADE7-053A61E503E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A51-13C6-46E0-9640-5F24069B11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48D-0E4E-4B6E-8B63-8865600ED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1B4-58FA-48B7-930C-1370EDF8D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857-8698-4445-8E11-9A5F14C029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8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DB2-E70A-4E87-81B8-9FEE7E2DFA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C8E1-A335-4B88-ABCB-1F001079E5D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836-22E9-44EA-B3A1-48306870551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A70-8A46-4890-9742-BFED7B31E5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10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arthquakes and Faults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 Kelly Thomas and Areli lopez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3048120" cy="21333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a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228600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3152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/>
          <p:nvPr/>
        </p:nvSpPr>
        <p:spPr>
          <a:xfrm>
            <a:off x="152388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1238" name=""/>
          <p:cNvSpPr/>
          <p:nvPr/>
        </p:nvSpPr>
        <p:spPr>
          <a:xfrm>
            <a:off x="495288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g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faul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743200" cy="236196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00400" y="18288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6400800" y="243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3124080" y="4191120"/>
            <a:ext cx="6098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Key Ter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ing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/Slip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ypes of stres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ress-a force that acts on rock to change its shape or volume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res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ension-stress that stretches rock so that it becomes thinner in the middle. Ten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3657600" cy="2362320"/>
          </a:xfrm>
          <a:prstGeom prst="rect">
            <a:avLst/>
          </a:prstGeom>
          <a:ln w="0">
            <a:noFill/>
          </a:ln>
        </p:spPr>
      </p:pic>
      <p:sp>
        <p:nvSpPr>
          <p:cNvPr id="1184" name=""/>
          <p:cNvSpPr/>
          <p:nvPr/>
        </p:nvSpPr>
        <p:spPr>
          <a:xfrm>
            <a:off x="3200400" y="2895480"/>
            <a:ext cx="4572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505320" y="5257800"/>
            <a:ext cx="2286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3809880" y="4191120"/>
            <a:ext cx="3881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stress cont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-stress that squeezes rock until it folds or brea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4724280" y="2971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793960" cy="144756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1905120" y="3962520"/>
            <a:ext cx="12189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46483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Faul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rmal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verse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ike slip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"/>
          <p:cNvSpPr/>
          <p:nvPr/>
        </p:nvSpPr>
        <p:spPr>
          <a:xfrm>
            <a:off x="4191120" y="22860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1524240" cy="133668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343400" y="34290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2143080" cy="211752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3352680" y="4952880"/>
            <a:ext cx="0" cy="228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301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ypes of wa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ging w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tw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3352680" y="1905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2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3962160" cy="304812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133720" y="3124080"/>
            <a:ext cx="1295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li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vic.gsa.org.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971800" y="23623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2895480" y="4648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733560" cy="2286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2514600" y="6324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a plateau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tea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4572000" cy="34909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2209680" y="228600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ul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r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lateau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ticlin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n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Review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1447920" cy="15238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857680" cy="152424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1295280" y="1828800"/>
            <a:ext cx="2286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752480" y="3733920"/>
            <a:ext cx="3812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1905120" y="4876920"/>
            <a:ext cx="609480" cy="3045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666880" y="4952880"/>
            <a:ext cx="2048040" cy="19051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5867280" y="3886200"/>
            <a:ext cx="0" cy="7621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5"/>
          <a:stretch/>
        </p:blipFill>
        <p:spPr>
          <a:xfrm>
            <a:off x="5029200" y="480060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9:15:14Z</dcterms:created>
  <dc:creator>kellythomas</dc:creator>
  <dc:description/>
  <dc:language>en-US</dc:language>
  <cp:lastModifiedBy>kellythomas</cp:lastModifiedBy>
  <dcterms:modified xsi:type="dcterms:W3CDTF">2008-02-12T13:06:53Z</dcterms:modified>
  <cp:revision>19</cp:revision>
  <dc:subject/>
  <dc:title>Earthquakes and Faults </dc:title>
</cp:coreProperties>
</file>